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30083-DE11-494E-B085-2139B440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EC56-67B8-4C8D-AE6C-F6842CC6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C3924-D65F-4BF7-9DED-0A987ECF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381A-10E0-486F-8832-BBBDAC89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5D42-C3D6-4484-A389-01986070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109-9341-45C1-B679-9A728DD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E554-93B9-4070-9499-7BA19F73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EB6F-EA9F-4D25-A659-EE042808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F065-B8E4-4C33-834E-1A1E1E95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42F4-43CF-42FF-A670-185C0D3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ADBC-6740-4B23-8F98-9737082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17C4C-3004-4176-A65E-16E97A14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A9BE-73A9-4794-AAD3-8A4D1F7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0AD-AD70-4429-B6EA-AACA02F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89BD-0C1D-40AA-B41E-8933EF90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02FB-986F-4BDC-BA78-CA70C762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9D33-A595-49DE-8F0C-ACCEF5E4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A8EC-1B60-4102-BD76-F5F460AC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A64C-7C79-4449-8132-37E9DD34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5604-5BED-497B-A2EE-5B8F40D3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56D6-8472-4A4A-A184-CC297749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1FFA8-DB60-4750-BCCC-EFFBF2A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3150-5890-458F-B20A-AEEC023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E63B-6EAE-4850-ACDF-F8B7413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7C26-F04C-466A-BBF5-689EFC02DD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BB5E-B975-4460-8FAF-A066EFEBD7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5" descr="autor_img"/>
          <p:cNvPicPr/>
          <p:nvPr/>
        </p:nvPicPr>
        <p:blipFill>
          <a:blip r:embed="rId1"/>
          <a:stretch/>
        </p:blipFill>
        <p:spPr>
          <a:xfrm>
            <a:off x="1908000" y="1773360"/>
            <a:ext cx="496908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. Рождественск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Если б только люди жили вечно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это было бы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бесчеловечно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узна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его ты в жизни стоиш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Как почуять,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что такое риск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море броситься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утоне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 костер взойти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Так не сгоришь!.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ле распах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том успею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орох выдумать?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А для чего?!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аслаждались бы ленивой спесью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Пленники бессмертья своего.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чего они бы не свершили!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Никогда б не вылезли из тьмы…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Может, самый главный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стимул жизн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В горькой истине, что смертны м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5" descr="рис2"/>
          <p:cNvPicPr/>
          <p:nvPr/>
        </p:nvPicPr>
        <p:blipFill>
          <a:blip r:embed="rId1"/>
          <a:stretch/>
        </p:blipFill>
        <p:spPr>
          <a:xfrm>
            <a:off x="981000" y="1600200"/>
            <a:ext cx="2990880" cy="4525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дь такова Жизнь, суетная и скоропреходящая. Только жизнь заставляет страдать. Умереть не больн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мереть – усну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мерть – это значит конец, поко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чему же тогда мне не хочется умира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«Любовь к жизни» - это рассказ о мужественном человеке, который выстоял в таких страшных испытаниях, как одиночество, предательство друга и борьба с суровой северной природой. Самое главное - преодолел себя, свой страх, свою бо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Джек Лондон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1876 – 1916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ек Лондон (настоящее имя Джон Гриффин) родился 12 января  1876 года в Сан-Франциско в семье разорившегося фермер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8" descr="рис"/>
          <p:cNvPicPr/>
          <p:nvPr/>
        </p:nvPicPr>
        <p:blipFill>
          <a:blip r:embed="rId1"/>
          <a:stretch/>
        </p:blipFill>
        <p:spPr>
          <a:xfrm>
            <a:off x="250920" y="1557360"/>
            <a:ext cx="4335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Золотая лихорадк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1896 году на Аляске были открыты залежи золо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Золотая лихорадка» захватила и Джека Лондо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12" descr="рисунок"/>
          <p:cNvPicPr/>
          <p:nvPr/>
        </p:nvPicPr>
        <p:blipFill>
          <a:blip r:embed="rId1"/>
          <a:stretch/>
        </p:blipFill>
        <p:spPr>
          <a:xfrm>
            <a:off x="468360" y="2133720"/>
            <a:ext cx="403236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сказы Джека Лондо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ернувшись в Сан-Франциско, он полностью отдается писательскому труду. 1899 год становится переломным в судьбе Лондона: один за другим выходят его «Северные рассказы» среди них был и рассказ «Любовь к жизни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7" descr="Белый клык  "/>
          <p:cNvPicPr/>
          <p:nvPr/>
        </p:nvPicPr>
        <p:blipFill>
          <a:blip r:embed="rId1"/>
          <a:stretch/>
        </p:blipFill>
        <p:spPr>
          <a:xfrm>
            <a:off x="250920" y="1341360"/>
            <a:ext cx="1904760" cy="2887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Любовь к жизни"/>
          <p:cNvPicPr/>
          <p:nvPr/>
        </p:nvPicPr>
        <p:blipFill>
          <a:blip r:embed="rId2"/>
          <a:stretch/>
        </p:blipFill>
        <p:spPr>
          <a:xfrm>
            <a:off x="2195640" y="4086360"/>
            <a:ext cx="1714320" cy="27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Обложка книги: Расса Кингмана «Иллюстрированная жизнь Дж. Лондона»"/>
          <p:cNvPicPr/>
          <p:nvPr/>
        </p:nvPicPr>
        <p:blipFill>
          <a:blip r:embed="rId3"/>
          <a:stretch/>
        </p:blipFill>
        <p:spPr>
          <a:xfrm>
            <a:off x="2411280" y="105264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ом в Калифофорн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ом в Калифорн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следние годы своей жизни Лондон провёл на калифорнинийском ранчо. 22 ноября 1916 года Джек Лондон скончался. За неполных 20 лет литературной деятельности Джек Лондон создал свыше 200 рассказов, 20 романов и 3 пьес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8" descr="дом В Калифорнии"/>
          <p:cNvPicPr/>
          <p:nvPr/>
        </p:nvPicPr>
        <p:blipFill>
          <a:blip r:embed="rId1"/>
          <a:stretch/>
        </p:blipFill>
        <p:spPr>
          <a:xfrm>
            <a:off x="826920" y="1773360"/>
            <a:ext cx="345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пигра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колько человек побеждает страх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столько он человек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Томас Корлей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англ. писатель и истор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Любовь к  жизни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6" descr="рис1"/>
          <p:cNvPicPr/>
          <p:nvPr/>
        </p:nvPicPr>
        <p:blipFill>
          <a:blip r:embed="rId1"/>
          <a:stretch/>
        </p:blipFill>
        <p:spPr>
          <a:xfrm>
            <a:off x="2340000" y="1628640"/>
            <a:ext cx="4319640" cy="37022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Билл шёл вперёд, даже не оглядываясь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кстремальная ситуац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от.лат.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tremu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« крайний») Экстремальная ситуация – ситуация, крайне напряжённая, опасная, требующая от человека наивысшего подъёма душевных и физических сил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к же он будет смеяться над Биллом, еслим это Билл, если эти бело-розовые кости-всё,  что осталось от Билл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9" descr="джек"/>
          <p:cNvPicPr/>
          <p:nvPr/>
        </p:nvPicPr>
        <p:blipFill>
          <a:blip r:embed="rId1"/>
          <a:stretch/>
        </p:blipFill>
        <p:spPr>
          <a:xfrm>
            <a:off x="468360" y="1628640"/>
            <a:ext cx="3744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6:03:39Z</dcterms:created>
  <dc:creator>Андрей</dc:creator>
  <dc:description/>
  <dc:language>en-US</dc:language>
  <cp:lastModifiedBy>Компьютер я. Машина!</cp:lastModifiedBy>
  <dcterms:modified xsi:type="dcterms:W3CDTF">2001-12-31T19:34:38Z</dcterms:modified>
  <cp:revision>18</cp:revision>
  <dc:subject/>
  <dc:title>Джек Лондон</dc:title>
</cp:coreProperties>
</file>